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0F07E-4F7E-4332-82E9-1B0A25EE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3426A-0F90-421A-BE5F-AF14A24D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1B229-961B-4E2F-852F-B9BCD2D1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6D69C-86F6-4133-B4B5-B2E76C5B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C47C-24A2-4FBB-99F2-902A328C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A9C8-23CA-488C-A071-E0AC9C8D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58A7-4838-438A-9011-0866BE7F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457E-992E-4F75-94B6-6EA1DC30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82AA-20A5-4A19-8786-9BDE8A25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67D5-05BA-4EE0-9FEA-CA68944B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EACA-D1E1-4B46-A304-FA4AC9A3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C1193-958C-4F7A-9A49-EE68073E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907F-4153-4F8C-AA9D-D186D3ED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7D83-C87C-4D72-9A8A-033A95B5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1222-AB1E-42A7-8840-21085CD0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7E4E-4D8C-470B-A1B2-E0640409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A1E4-5917-441C-8BE1-F6F7B552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B28F9-B83C-4A5A-A41E-84A10DC2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41211-F9B4-4334-8B26-1E813576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DCCC6-7778-45FF-A9FB-E367C4B8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21702-808F-445A-9775-19179889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F0D7D-B1EE-477A-8767-FD360E3E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E88CE-3DCD-4EE8-9628-D65704F2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3AE77-F183-413F-9A5A-358D96CA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1E2C-1C2D-437D-B498-1F3BDBCF15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04B3-1D74-42BB-9B9C-3D35176DFF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Reactions in Aqueous Solu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1689-7716-42A0-9F5B-40D49268BB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4000"/>
            </a:b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Dilution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تخفي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procedure for 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less concentrated solution from a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entrated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 law: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قانون التخفيف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300720" y="2637000"/>
            <a:ext cx="2523960" cy="3415320"/>
            <a:chOff x="6300720" y="2637000"/>
            <a:chExt cx="2523960" cy="34153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300720" y="2637000"/>
              <a:ext cx="2523960" cy="20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550200" y="4696920"/>
              <a:ext cx="211716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wo KMn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solutions of different concent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26920" y="3645000"/>
                <a:ext cx="4392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4797360"/>
            <a:ext cx="220968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بل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98680" y="4869000"/>
            <a:ext cx="221004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132600"/>
            <a:ext cx="82040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units of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&amp;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must be the same (ml or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E451B-D9A6-4BC3-9CBF-4F60051475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8 p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ow you would prepare 5.00 x 10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mL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.75 M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solution, starting with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8.61 M stock solution of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637000"/>
            <a:ext cx="705636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75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5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.61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11280" y="4508640"/>
                <a:ext cx="806436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l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-25200" y="13208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45920" y="404640"/>
            <a:ext cx="55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46440" y="19652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B81B9-D27D-4169-936E-7C317BBA7B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640" y="2276640"/>
            <a:ext cx="6105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4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rst Exa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1, 2, 3, &amp;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57612-C511-4EF0-864E-E0D6E492E0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Reactions in Aqueous Solution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147-15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6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.60, 4.62, 4.64, 4.66, 4.70, 4.74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01493-1F23-436B-8651-C1DB22F0FF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: 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Reactions in Aqueous Solution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4.5 Concentra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Dilu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CA748-25D1-4BC8-8137-D8B613FA21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3600"/>
            </a:b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Molarity</a:t>
            </a: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concentration of solution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amount of solute (solid or liquid) present in a given amount of solvent (liqu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st common unit to express the concentration is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 (M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number of moles of solute p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tr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unit of molarity is mol/L = Molar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48000" y="4221000"/>
                <a:ext cx="354816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larit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es of solut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iters of solutio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C9E55-B78F-4A09-8BEB-7E5E95774F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Mo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419640" y="1101600"/>
                <a:ext cx="143964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042920" y="234936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2349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364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0" y="3213000"/>
            <a:ext cx="273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iven: n &amp;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3211560"/>
            <a:ext cx="2879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iven: n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3257640"/>
            <a:ext cx="273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Given:  V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5640" y="5516640"/>
                <a:ext cx="403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8467A-F72B-4620-97FF-B91679BAF7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3560" y="811080"/>
            <a:ext cx="66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ing a Solution of Known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04_16"/>
          <p:cNvPicPr/>
          <p:nvPr/>
        </p:nvPicPr>
        <p:blipFill>
          <a:blip r:embed="rId1"/>
          <a:stretch/>
        </p:blipFill>
        <p:spPr>
          <a:xfrm>
            <a:off x="228600" y="1989000"/>
            <a:ext cx="868680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8B0D9-1BB4-4080-899A-DE1E8576F8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6 p14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grams of potassium dichr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K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r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 are required to prepare a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l solution whose concentration is 2.16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63700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 = 250 ml = 250 ml/1000 = 0.25 L; M = 2.16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59280" y="4143240"/>
                <a:ext cx="5976720" cy="26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 mol/L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x 2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9 g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E052-C3B4-41D2-9A8B-0FBE6F3143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7 p14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biochemical assay, a chemist needs to 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3.81 g of glucose to a reaction mixtur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volume in milliteres of a 2.53 M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lution she should use for the ad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92104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m = 3.81 g ; M = 2.53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 (L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92428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943280" y="4149720"/>
                <a:ext cx="687672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/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 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EE748-B2F0-4767-B250-2AE373DA24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656160" y="2500200"/>
            <a:ext cx="1752480" cy="856080"/>
            <a:chOff x="3656160" y="2500200"/>
            <a:chExt cx="1752480" cy="856080"/>
          </a:xfrm>
        </p:grpSpPr>
        <p:sp>
          <p:nvSpPr>
            <p:cNvPr id="136" name=""/>
            <p:cNvSpPr/>
            <p:nvPr/>
          </p:nvSpPr>
          <p:spPr>
            <a:xfrm>
              <a:off x="3656160" y="2917440"/>
              <a:ext cx="175248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5280" y="25002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33200" y="29574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99cc"/>
                  </a:solidFill>
                  <a:latin typeface="Arial"/>
                </a:rPr>
                <a:t>Add Sol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2678040" cy="325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637240" y="1052640"/>
            <a:ext cx="2914560" cy="339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E6601-B36E-4C40-9A2A-D4B8E81A6E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7:27Z</dcterms:modified>
  <cp:revision>500</cp:revision>
  <dc:subject/>
  <dc:title>General Chemistry CHEM 110</dc:title>
</cp:coreProperties>
</file>